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ECA-6675-42E2-A78C-2C78C7AE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89E-3099-4191-8A2B-64147E1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D26-4A79-4475-AF66-55140BFF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F80-8F3A-46C9-8732-7CC1AE0E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032-BD6F-461A-BF13-13B7680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8C5-86E3-4442-BB79-72483E8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9F5-CE13-4D75-B9ED-8B7A83A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89C-BF7D-4759-AAC5-B58E710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942-0F90-46C1-B059-563FEBD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67F-85F2-4F52-B5A5-C6E71D7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BDA-C4C5-4D97-9D45-4C7EA29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930-53C6-48F1-ABCE-7321DAF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802-B955-4F34-9958-BA9916B133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Kozuka Mincho Pro L"/>
              </a:rPr>
              <a:t>Dallas Cowboys Cheerlead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419720"/>
            <a:ext cx="281916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228600"/>
            <a:ext cx="6858000" cy="2133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tory on the true Dallas cowbo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Dallas cowboys 1970’s-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Dallas Cowboys cheerleaders better known as dc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83884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Dallas favorit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Jordon chan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Michelle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126200">
            <a:off x="5486400" y="1218960"/>
            <a:ext cx="204156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344800">
            <a:off x="4267080" y="396216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♥</a:t>
            </a: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My role model♥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ush Script Std"/>
              </a:rPr>
              <a:t>Nicole Hamilt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776400">
            <a:off x="5714640" y="1752480"/>
            <a:ext cx="2793960" cy="367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0894400">
            <a:off x="762120" y="2285640"/>
            <a:ext cx="280980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Dallas cowboys coach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Director ke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41:34Z</dcterms:created>
  <dc:creator>769579</dc:creator>
  <dc:description/>
  <dc:language>en-US</dc:language>
  <cp:lastModifiedBy>769579</cp:lastModifiedBy>
  <dcterms:modified xsi:type="dcterms:W3CDTF">2008-12-09T17:08:58Z</dcterms:modified>
  <cp:revision>3</cp:revision>
  <dc:subject/>
  <dc:title>Dallas Cowboys Cheerleaders</dc:title>
</cp:coreProperties>
</file>